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B31C-6F90-470F-931F-75880153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058D-9AF1-43E8-AC1D-C60B4C03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C243-535F-4334-9502-29470897D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FBB0-CD42-4457-A9D9-66C56708E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6334-8DF0-4294-BDE2-4664150F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8C89-B8C9-41E4-9F58-B7D28F48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44A6-D38E-4C0D-B41C-629FDD51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E27B-97E8-48B0-8458-411E12D1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B48F-48F8-4C7C-8FC0-0EDA3016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DDBD-D0B4-4296-80FC-1ABA1664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B052-6F64-4BB4-B695-F7950F4F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FAB9-E158-4B05-B0E0-761280FA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60F7-DF93-4C53-A939-E38DDDEF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686E-AA6F-46D1-9CB8-D383E92C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C783-AB11-4F54-960F-04C947A5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465B-183D-4140-9EBE-DA527D47E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8AEB-2C52-4B3A-A058-169CD288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3EE4-1CB4-44C0-A2A0-DCC31930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6BB8-1090-4B74-A303-6E22B914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77CA-25A0-493B-9750-7D8A56C3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3D7C-DDA4-47EC-A8A3-72231C71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830C-4131-4810-9507-7301B2BD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D923-90D8-4E8B-9B5C-7AE9CD00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595E-B47F-49A0-8942-F9D883CA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3984-10C0-44AC-81A4-FA37D0BA16F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3841-2A1C-4AC1-8A80-E46BE3AEFAD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cceptable Use for Stud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ing a computer to talk to your friends is cool.  Exploring Web sites makes school work more fu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ust as there are rules in your classroom, in the Science lab, at home, and for crossing the street safely, there are rules for using computers, programs and the Interne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cceptable Mea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Permitted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Yes you can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t’s OK to do it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However, there are guidelines-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udent Internet U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st support the educational goals and objectives of RRIS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st be educationally releva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st be supervised by adults at all tim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udents may not type their own or others’ name, address, phone number or other personal information into any place on the Intern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may students do on the computer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have parental permission to use the Inter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st be an educational purpose for using the Interne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y contribute to class web p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y use teacher- designed web p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may students do on the compute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y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row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eacher-selected web pages with staff supervision-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rowse mean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ing through pages of a specific web site designated by the teacher to view the content of those particular p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UP- cont’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des 4 and 5 may search subject directories- Nettrekker, Yahooligans, those designated by the librarian or teacher to be student friend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des 3-5 may typ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eacher-approv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URL’s directly into the address bar-  Students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have the address checked by the teacher before pressing En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udent Internet U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fer to the matrix with specific guidelines for student use of the Internet found posted in the lab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ch teacher also has a copy and will be carefully monitoring the content produc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eck with your ITS or Librarian if there are ques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Ensure all information is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ppropriate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levant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liabl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udents should get facts, not opinions or propaganda (unless your directions specifically ask for these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eachers can assist students in accessing appropriate information from the interne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udents may also build their own curriculum-related webp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th the abundance of new social media tools available to student:                                            wikis and blogs, student products. and documents have the potential to reach an audience far beyond the classroom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udents should request help in evaluating the credibility of the information and recognizing inappropriate conten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is brings new levels of responsibility and accountability for everyon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1371600" y="1143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ith Supervis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7T21:20:09Z</dcterms:created>
  <dc:creator>amanda allen</dc:creator>
  <dc:description/>
  <dc:language>en-US</dc:language>
  <cp:lastModifiedBy>admin</cp:lastModifiedBy>
  <dcterms:modified xsi:type="dcterms:W3CDTF">2008-09-02T01:15:28Z</dcterms:modified>
  <cp:revision>21</cp:revision>
  <dc:subject/>
  <dc:title>Student Internet Use</dc:title>
</cp:coreProperties>
</file>